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089189"/>
        <c:axId val="17378213"/>
      </c:barChart>
      <c:catAx>
        <c:axId val="950891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78213"/>
        <c:crosses val="autoZero"/>
        <c:auto val="1"/>
        <c:lblAlgn val="ctr"/>
        <c:lblOffset val="100"/>
        <c:noMultiLvlLbl val="0"/>
      </c:catAx>
      <c:valAx>
        <c:axId val="173782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0891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017F5-BABE-456E-8F80-F03CF1DCC0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C61F1-CA41-43B2-9FB8-9BC1D8C30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90C8D-161B-45EA-875C-FCA51BCD6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ABC31-2893-417A-83AD-0492178D2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EA275-CCD6-4F5D-B3E0-AA16013A08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4D636-5987-48DD-8E54-4C81F801E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3C41B-B92D-4655-8899-8033F99FF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D5AC5-29B5-4970-8DBE-5C1FF388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97539-2267-4FE6-A876-9B1C3616E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74D7E-7B6B-4FAB-8C7B-549A4C46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0A42D-E757-42C9-B0C1-4904812E0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ED0B-2A47-401A-BC0D-AB1C2892F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6AEA66-F565-4F9A-96CD-56AF68F402F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